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1A43-2BDD-44FD-BCA7-68218A77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78D0-8222-426D-B6CC-BC45931E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BADA-D1FD-473F-A264-D20B9B91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601F-485F-4755-80A7-DD02960E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FBD0-8CED-4AFA-AD04-83D2D320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15AF-B696-498C-A693-00C331EA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B87F-3459-4299-973C-3EAF7480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296C-D900-4D75-9158-319E49D8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90FB-1234-490A-A8A0-E4855E93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248A-431A-435B-BC14-CC5D53F3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1DF0-2047-42A1-AF72-A7DE9BCD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75CC-3204-46B4-A498-9E53CB2F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7120-A99B-4376-84FE-94E724A2799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D9A0-B673-410F-8F9A-57718F6EE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624720" cy="64764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2205000"/>
            <a:ext cx="6624720" cy="47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CIÓN DE DIRECTORES/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4797360"/>
            <a:ext cx="2737080" cy="307080"/>
          </a:xfrm>
          <a:prstGeom prst="rect">
            <a:avLst/>
          </a:prstGeom>
          <a:solidFill>
            <a:srgbClr val="fc20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DERICO PÉREZ MORÁ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3284640"/>
            <a:ext cx="331164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Pais separados e divorc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63AD-B5D2-41E0-B41E-4AC5F9A9779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D37FC-6427-48CA-8B3C-DB9AE383E6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1989000"/>
            <a:ext cx="792144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O pai dun alumno de 12 anos solicita información sobre o seu fillo no centro. ¿Como debe actuar o cent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41360"/>
            <a:ext cx="655308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NFORMACIÓN A PAIS SEPARADOS OU DIVORC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2924280"/>
            <a:ext cx="7921440" cy="283716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Pódense dar dous cas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Cando existe separación legal mediante sentenza e pronunciamento sobre a garda e custodia a favor dun ou dos dous proxenitores, </a:t>
            </a:r>
            <a:r>
              <a:rPr b="1" lang="gl-ES" sz="1800" spc="-1" strike="noStrike">
                <a:solidFill>
                  <a:srgbClr val="333399"/>
                </a:solidFill>
                <a:latin typeface="Arial"/>
              </a:rPr>
              <a:t>sen que exista ao mesmo tempo privación expresa da Patria Potestade</a:t>
            </a: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 a un deles, ambos teñen dereito a recibir a mesma información sobre o proceso educativo do seu fillo/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Se o ditame da sentenza tivese unha </a:t>
            </a:r>
            <a:r>
              <a:rPr b="1" lang="gl-ES" sz="1800" spc="-1" strike="noStrike">
                <a:solidFill>
                  <a:srgbClr val="333399"/>
                </a:solidFill>
                <a:latin typeface="Arial"/>
              </a:rPr>
              <a:t>declaración expresa</a:t>
            </a: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 sobre o particular, os centros ateranse ao disposto n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066C-1001-4FB5-B9DE-4A2F077327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C8F2A-1266-4017-AEA2-2B12E4E3D0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1197000"/>
            <a:ext cx="662472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NFORMACIÓN A PAIS SEPARADOS OU DIVORC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1916280"/>
            <a:ext cx="7921440" cy="338580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Se non hai declaración expresa os centros seguirán o seguinte</a:t>
            </a:r>
            <a:r>
              <a:rPr b="1" lang="gl-ES" sz="1800" spc="-1" strike="noStrike">
                <a:solidFill>
                  <a:srgbClr val="333399"/>
                </a:solidFill>
                <a:latin typeface="Arial"/>
              </a:rPr>
              <a:t>    procedeme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O pai/nai que non ostenta a garda e custodia debe solicitar a información xustificando a súa situación legal mediante copia fidedigna da sentenza xudicial de divorcio, separación ou nuli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O centro comunicará ao pai/nai que </a:t>
            </a:r>
            <a:r>
              <a:rPr b="1" lang="gl-ES" sz="1800" spc="-1" strike="noStrike">
                <a:solidFill>
                  <a:srgbClr val="333399"/>
                </a:solidFill>
                <a:latin typeface="Arial"/>
              </a:rPr>
              <a:t>teña a garda e custodia</a:t>
            </a: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 a pretensión do solicitante,  concedéndolle un prazo de 10 días para que poida formulara as alegacións que estime oportunas. </a:t>
            </a:r>
            <a:r>
              <a:rPr b="1" lang="gl-ES" sz="1800" spc="-1" strike="noStrike">
                <a:solidFill>
                  <a:srgbClr val="333399"/>
                </a:solidFill>
                <a:latin typeface="Arial"/>
              </a:rPr>
              <a:t>(Indicaráselle que pode ter copia da sentenza achegada polo outro proxenitor par contrastar se é a última ditad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De non haber inconveniente o centro facilitará información ao solicitante tanto verbalmente como por escrito(boletí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8658-98EB-4833-AF19-62FE09053FA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53D45-BDB3-4D31-8D5D-6224B2CA01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1989000"/>
            <a:ext cx="7921440" cy="91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2.- O pai dun alumno de 12 anos, </a:t>
            </a: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privado da patria potestade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, solicita información sobre o seu fillo no centro. ¿Como debe actuar o cent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1341360"/>
            <a:ext cx="446544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Patria potestade 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3429000"/>
            <a:ext cx="7921440" cy="119124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Os centros </a:t>
            </a:r>
            <a:r>
              <a:rPr b="1" lang="gl-ES" sz="1800" spc="-1" strike="noStrike">
                <a:solidFill>
                  <a:srgbClr val="333399"/>
                </a:solidFill>
                <a:latin typeface="Arial"/>
              </a:rPr>
              <a:t>non proporcionarán información</a:t>
            </a: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 ao cónxuxe </a:t>
            </a:r>
            <a:r>
              <a:rPr b="1" lang="gl-ES" sz="1800" spc="-1" strike="noStrike" u="sng">
                <a:solidFill>
                  <a:srgbClr val="ff3300"/>
                </a:solidFill>
                <a:uFillTx/>
                <a:latin typeface="Arial"/>
              </a:rPr>
              <a:t>privado ou excluído da Patria Potestade</a:t>
            </a: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, agás que por orde xudicial se indique o contr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4869000"/>
            <a:ext cx="237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 circular 1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BA21-EE43-4B90-917F-2EC4F10C8A6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CC06D-010C-4416-A7D1-480A0AD155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9:34:47Z</dcterms:created>
  <dc:creator>-</dc:creator>
  <dc:description/>
  <dc:language>en-US</dc:language>
  <cp:lastModifiedBy>-</cp:lastModifiedBy>
  <dcterms:modified xsi:type="dcterms:W3CDTF">2009-10-27T18:23:27Z</dcterms:modified>
  <cp:revision>17</cp:revision>
  <dc:subject/>
  <dc:title>PREGUNTAS E RESPOSTAS</dc:title>
</cp:coreProperties>
</file>